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5074-87AA-4629-84F3-045D451230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difference: coefficient of n is the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level difference: compare with squar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    = 1, 4, 9, 16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level difference: compare with cub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    = 1, 8, 27, 64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of these helpful: look for powers of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    = 1, 2, 4, 8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lternate: use (-1)  and (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when k is od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 when k is 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difference: coefficient of n is the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level difference: compare with squar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    = 1, 4, 9, 16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level difference: compare with cub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    = 1, 8, 27, 64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of these helpful: look for powers of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    = 1, 2, 4, 8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lternate: use (-1)  and (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when k is od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 when k is 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next three terms in the sequence 5, 8, 11, 14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next three terms in the sequence 5, 8, 11, 14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th term of a sequence is given by  x 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first four terms of the sequ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erm in the sequence 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 sequence as a recurrence 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th term of a sequence is given by  x 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first four terms of the sequ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erm in the sequence 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 sequence as a recurrence 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nth term of the sequence +1, -4, +9, -16, +25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nth term of the sequence +1, -4, +9, -16, +25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 is defined by a recurrence relation of the for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       = aM  +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that M  = 10, M  = 20, M  = 24, find the value of a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 of b and hence find M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 is defined by a recurrence relation of the for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       = aM  +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that M  = 10, M  = 20, M  = 24, find the value of a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 of b and hence find M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 is a set of terms, in a definite order, where the terms are obtained by some r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ite sequence ends after a certain number of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finite sequence is one that continues indefini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 is a set of terms, in a definite order, where the terms are obtained by some r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ite sequence ends after a certain number of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finite sequence is one that continues indefini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3, 5, 7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is is a sequence of odd numb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  term =   2 x 1 – 1  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  term =   2 x 2 – 1  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  term =   2 x 3 – 1   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  term =   2 x n – 1   = 2n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3, 5, 7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is is a sequence of odd numb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  term =   2 x 1 – 1  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  term =   2 x 2 – 1  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  term =   2 x 3 – 1   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  term =   2 x n – 1   = 2n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ULA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ULA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currence relation defines the first term(s) in the sequence and the relation between successive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currence relation defines the first term(s) in the sequence and the relation between successive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3n 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, 8, 11, 14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n 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, 8, 11, 14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look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ooking for the r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ng a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look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ooking for the r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ng a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6D16-32DD-4F6E-B6CC-CC46B8EF8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25B2-F938-420F-A56B-D13E7ACC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842B-DF25-4996-98AD-0E218B6DF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05DF-25EC-450D-AE4F-C689E10AD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05C0-22D8-4443-9B4F-2B5576EB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B732-5E3D-4CF6-B56C-5F76B237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FCCE-3028-40AA-A938-58F0A7CC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9A8C-7034-4BCC-9DFA-FA23C7BA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A8A2-5C2F-4D60-897E-A7B1A372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F709-A259-40A9-80DA-0445F91C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160D-D70D-40F9-9ABE-B7AB44CC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2B94-C479-418D-9A00-55D7E721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032E-D76D-4FCC-8073-A317B2A4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9C5F-B976-45A1-B0D9-8EA7CDE8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9594-C975-4988-9FD0-38CC895D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7AF3-56E1-411D-83A0-C5BD343A5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9793-A385-4966-9A55-2014E4556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B05BD-7772-40AF-BBFD-FDC9E0B6D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49700-DD7C-450C-8839-2897C35A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1B999-1D34-4A35-89EC-DA01317E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7B55B-B021-40FF-AA28-60650EE0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2CC6B-FCD4-4CA2-B84E-97951AF8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91A9-D0E5-403F-879E-8032DB9B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98F0F-691B-43BD-8B63-35F17AAB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3E9FD-BE4A-4BFC-B57C-11594469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08855-BCE7-44BD-A782-FEB17481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3DA5A-0786-41F4-84A7-2C131F6B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00786-05C1-4475-9D39-39FB0FA3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6A7B4-B9D2-40B9-B899-C1F31AE84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34C8C-3952-4250-82A0-80D77B651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50AD8-03BD-46B9-8667-C1DCC827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59880-FF81-419A-A473-7DF0AAB0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8B831-80E5-4364-8C29-D7EA94E1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04D0-109B-488F-AF14-AF6EDD5F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C97E1-3EAD-477F-B7C5-597C0545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D745A-790F-40C4-92CE-40BB4870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3CAA0-26CE-42D8-8BA9-195FB31A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6463D-06DA-47AA-951F-6050A669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F7A86-AF63-4907-927B-6BC983AB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3F182-0882-46EA-9B61-80F238AD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23382-7CC4-420B-95E2-DC6943F4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C7734-E17A-48BB-9E52-4C1E95E26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9F0E5-F641-4517-8456-F4D966F5F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04B1-6699-429D-BDDB-ED36A708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5002-A6B6-4903-8015-31CD4862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EF2A-FBC0-4CCB-A313-2E9F852D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7C71-E7CD-48C9-8C32-7EB508C0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C140-1127-49B2-98F7-8C2C891B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84C9-D7ED-4DF4-BE23-2A5C425D51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AB9F-DEE8-44CB-B910-AE07FE85154F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7EF7-D3BE-4557-AC5F-63FEA170AC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1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1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85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80D8-A59D-46BA-AD10-30158027DC91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5"/>
          <p:cNvSpPr txBox="1"/>
          <p:nvPr/>
        </p:nvSpPr>
        <p:spPr>
          <a:xfrm rot="3130800">
            <a:off x="3768120" y="3369240"/>
            <a:ext cx="3878280" cy="143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6600ff"/>
                    </a:gs>
                  </a:gsLst>
                  <a:lin ang="20688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EQUENCE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6600ff"/>
                  </a:gs>
                </a:gsLst>
                <a:lin ang="20688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108000" y="620280"/>
            <a:ext cx="8640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Constant difference: coefficient of </a:t>
            </a:r>
            <a:r>
              <a:rPr b="0" i="1" lang="en-GB" sz="2400" spc="-1" strike="noStrike">
                <a:solidFill>
                  <a:srgbClr val="9933ff"/>
                </a:solidFill>
                <a:latin typeface="Comic Sans MS"/>
              </a:rPr>
              <a:t>n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 is the differ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2</a:t>
            </a:r>
            <a:r>
              <a:rPr b="0" lang="en-GB" sz="2400" spc="-1" strike="noStrike" baseline="30000">
                <a:solidFill>
                  <a:srgbClr val="9933ff"/>
                </a:solidFill>
                <a:latin typeface="Comic Sans MS"/>
              </a:rPr>
              <a:t>nd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 level difference: compare with square nu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9933ff"/>
                </a:solidFill>
                <a:latin typeface="Comic Sans MS"/>
              </a:rPr>
              <a:t>(</a:t>
            </a:r>
            <a:r>
              <a:rPr b="0" i="1" lang="en-GB" sz="2000" spc="-1" strike="noStrike">
                <a:solidFill>
                  <a:srgbClr val="9933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9933ff"/>
                </a:solidFill>
                <a:latin typeface="Comic Sans MS"/>
              </a:rPr>
              <a:t>    = 1, 4, 9, 16, …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3</a:t>
            </a:r>
            <a:r>
              <a:rPr b="0" lang="en-GB" sz="2400" spc="-1" strike="noStrike" baseline="30000">
                <a:solidFill>
                  <a:srgbClr val="9933ff"/>
                </a:solidFill>
                <a:latin typeface="Comic Sans MS"/>
              </a:rPr>
              <a:t>rd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 level difference: compare with cube nu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9933ff"/>
                </a:solidFill>
                <a:latin typeface="Comic Sans MS"/>
              </a:rPr>
              <a:t>(</a:t>
            </a:r>
            <a:r>
              <a:rPr b="0" i="1" lang="en-GB" sz="2000" spc="-1" strike="noStrike">
                <a:solidFill>
                  <a:srgbClr val="9933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9933ff"/>
                </a:solidFill>
                <a:latin typeface="Comic Sans MS"/>
              </a:rPr>
              <a:t>    = 1, 8, 27, 64, …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None of these helpful: look for powers of nu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(2     = 1, 2, 4, 8, …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Signs alternate: use (-1)  and (-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-1 when k is odd</a:t>
            </a: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+1 when k is ev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3184560" y="4456080"/>
            <a:ext cx="160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5150880" y="349416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3926880" y="350028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685800" y="148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33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685800" y="2332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33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711360" y="31240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9933ff"/>
                </a:solidFill>
                <a:latin typeface="Arial"/>
              </a:rPr>
              <a:t>n </a:t>
            </a:r>
            <a:r>
              <a:rPr b="1" lang="en-GB" sz="1400" spc="-1" strike="noStrike">
                <a:solidFill>
                  <a:srgbClr val="9933ff"/>
                </a:solidFill>
                <a:latin typeface="Arial"/>
              </a:rPr>
              <a:t>-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3"/>
          <p:cNvSpPr/>
          <p:nvPr/>
        </p:nvSpPr>
        <p:spPr>
          <a:xfrm flipH="1">
            <a:off x="3203280" y="4149720"/>
            <a:ext cx="647640" cy="43164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4"/>
          <p:cNvSpPr/>
          <p:nvPr/>
        </p:nvSpPr>
        <p:spPr>
          <a:xfrm>
            <a:off x="5148360" y="4149720"/>
            <a:ext cx="1152360" cy="43164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50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" dur="500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6" dur="500"/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79135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AMPLE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nd the next three terms in the sequence 5, 8, 11, 14,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79135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AMPLE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Kristen ITC"/>
              </a:rPr>
              <a:t>The nth term of a sequence is given by  x  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Find the first four terms of the sequenc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b)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Which term in the sequence is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c)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Express the sequence as a recurrence relation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6075360" y="1268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Kristen ITC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6014160" y="134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6078240" y="1773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6222600" y="1684440"/>
            <a:ext cx="29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Kristen ITC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5573160" y="1611360"/>
            <a:ext cx="29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Kristen ITC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9"/>
          <p:cNvSpPr/>
          <p:nvPr/>
        </p:nvSpPr>
        <p:spPr>
          <a:xfrm>
            <a:off x="5352840" y="2781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5122080" y="3141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10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5150880" y="2852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79135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AMPLE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nd the nth term of the sequence +1, -4, +9, -16, +25,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79138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AMPLE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sequence is defined by a recurrence relation of the form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=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a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+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iven that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M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10,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= 20,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= 24, find the value of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and th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alue of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and hence find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450720" y="1125360"/>
            <a:ext cx="5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 +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1698480" y="148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3781080" y="148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2701800" y="148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3420720" y="1844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769644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sequenc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a set of terms, in a definite order, where the terms are obtained by some ru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250920" y="2205000"/>
            <a:ext cx="769608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inite sequenc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ends after a certain number of te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250920" y="3646440"/>
            <a:ext cx="769608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infinite sequenc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one that continues indefinit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2808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2987640" y="404640"/>
            <a:ext cx="539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, 3, 5, 7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This is a sequence of odd numb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620640" y="1628640"/>
            <a:ext cx="76964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1s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term =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 x 1 – 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68360" y="2133720"/>
            <a:ext cx="7696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2n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term =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 x 2 – 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476280" y="2637000"/>
            <a:ext cx="7696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3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term =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 x 3 – 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539640" y="4941720"/>
            <a:ext cx="76964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nt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term =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 x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= 2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900000" y="2924280"/>
            <a:ext cx="769644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1"/>
          <p:cNvSpPr/>
          <p:nvPr/>
        </p:nvSpPr>
        <p:spPr>
          <a:xfrm>
            <a:off x="5364000" y="1916280"/>
            <a:ext cx="71640" cy="504720"/>
          </a:xfrm>
          <a:custGeom>
            <a:avLst/>
            <a:gdLst>
              <a:gd name="textAreaLeft" fmla="*/ 0 w 71640"/>
              <a:gd name="textAreaRight" fmla="*/ 25920 w 7164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2"/>
          <p:cNvSpPr/>
          <p:nvPr/>
        </p:nvSpPr>
        <p:spPr>
          <a:xfrm>
            <a:off x="5364000" y="2492280"/>
            <a:ext cx="71640" cy="505080"/>
          </a:xfrm>
          <a:custGeom>
            <a:avLst/>
            <a:gdLst>
              <a:gd name="textAreaLeft" fmla="*/ 0 w 71640"/>
              <a:gd name="textAreaRight" fmla="*/ 25920 w 7164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5508720" y="198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+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5508720" y="25574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+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8"/>
          <p:cNvSpPr/>
          <p:nvPr/>
        </p:nvSpPr>
        <p:spPr>
          <a:xfrm flipH="1">
            <a:off x="5219280" y="2997360"/>
            <a:ext cx="576360" cy="19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8900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33ff"/>
                </a:solidFill>
                <a:latin typeface="Comic Sans MS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30984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1st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684360" y="170028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2nd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684360" y="220500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3rd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684360" y="463716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th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1622520" y="2708280"/>
            <a:ext cx="3309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3635280" y="1484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3637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363744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3635280" y="486900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8900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33ff"/>
                </a:solidFill>
                <a:latin typeface="Comic Sans MS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30984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1st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684360" y="170028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2nd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684360" y="220500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3rd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684360" y="463716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th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1622520" y="2708280"/>
            <a:ext cx="3309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3635280" y="1484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3637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363744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3635280" y="486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993080" cy="482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6600ff"/>
                </a:solidFill>
                <a:latin typeface="Comic Sans MS"/>
              </a:rPr>
              <a:t>FINDING</a:t>
            </a:r>
            <a:br>
              <a:rPr sz="6000"/>
            </a:br>
            <a:r>
              <a:rPr b="1" lang="en-GB" sz="6000" spc="-1" strike="noStrike">
                <a:solidFill>
                  <a:srgbClr val="6600ff"/>
                </a:solidFill>
                <a:latin typeface="Comic Sans MS"/>
              </a:rPr>
              <a:t>THE FORMULA FOR</a:t>
            </a:r>
            <a:br>
              <a:rPr sz="6000"/>
            </a:br>
            <a:r>
              <a:rPr b="1" lang="en-GB" sz="6000" spc="-1" strike="noStrike">
                <a:solidFill>
                  <a:srgbClr val="6600ff"/>
                </a:solidFill>
                <a:latin typeface="Comic Sans MS"/>
              </a:rPr>
              <a:t>THE TERMS OF</a:t>
            </a:r>
            <a:br>
              <a:rPr sz="6000"/>
            </a:br>
            <a:r>
              <a:rPr b="1" lang="en-GB" sz="6000" spc="-1" strike="noStrike">
                <a:solidFill>
                  <a:srgbClr val="6600ff"/>
                </a:solidFill>
                <a:latin typeface="Comic Sans MS"/>
              </a:rPr>
              <a:t>A SEQUENCE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78920" y="1557000"/>
            <a:ext cx="769644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recurrence relatio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defines the first term(s) in the sequence and the relation between successive ter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0256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684360" y="1700280"/>
            <a:ext cx="80643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u  +3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684360" y="2205000"/>
            <a:ext cx="7632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u  +3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684360" y="4637160"/>
            <a:ext cx="81356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u  +3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3</a:t>
            </a:r>
            <a:r>
              <a:rPr b="1" i="1" lang="en-GB" sz="32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1693800" y="2708280"/>
            <a:ext cx="3309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898560" y="1484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900360" y="1995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90216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900000" y="486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3"/>
          <p:cNvSpPr/>
          <p:nvPr/>
        </p:nvSpPr>
        <p:spPr>
          <a:xfrm>
            <a:off x="395280" y="189000"/>
            <a:ext cx="2808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4"/>
          <p:cNvSpPr/>
          <p:nvPr/>
        </p:nvSpPr>
        <p:spPr>
          <a:xfrm>
            <a:off x="3059280" y="260280"/>
            <a:ext cx="5398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5, 8, 11, 14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5"/>
          <p:cNvSpPr/>
          <p:nvPr/>
        </p:nvSpPr>
        <p:spPr>
          <a:xfrm>
            <a:off x="2916360" y="2708280"/>
            <a:ext cx="1008000" cy="20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2193840" y="19890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217512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2124000" y="49338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539640" y="1916280"/>
            <a:ext cx="791856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200"/>
                </a:solidFill>
                <a:latin typeface="Comic Sans MS"/>
              </a:rPr>
              <a:t>What to look for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200"/>
                </a:solidFill>
                <a:latin typeface="Comic Sans MS"/>
              </a:rPr>
              <a:t>when looking for the rul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200"/>
                </a:solidFill>
                <a:latin typeface="Comic Sans MS"/>
              </a:rPr>
              <a:t>defining a sequenc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9:42:18Z</dcterms:created>
  <dc:creator>zafer</dc:creator>
  <dc:description>Sequences - Finding a rule</dc:description>
  <cp:keywords>Sequences - Finding a rule</cp:keywords>
  <dc:language>en-US</dc:language>
  <cp:lastModifiedBy>RomaK</cp:lastModifiedBy>
  <dcterms:modified xsi:type="dcterms:W3CDTF">2015-09-04T09:20:13Z</dcterms:modified>
  <cp:revision>8</cp:revision>
  <dc:subject>Sequences - Finding a rule</dc:subject>
  <dc:title>Sequences - Finding a rule</dc:title>
</cp:coreProperties>
</file>